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D98-51EB-4EFE-806F-04C61E65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D3E-C50C-427D-B11E-B2A17A0F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DA7-8976-44FD-8223-815C4BD5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189-7340-488D-9997-7B322A25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92C9-C211-4A28-A76F-6EFE313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7FA0-EF5E-410E-B28A-FC545CA9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E6A-CEE1-43DD-BF1D-CA9D85E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F1A-8495-47C3-A627-99E1875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40F5-4CB2-428E-BB89-0BC2245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0627-FD2D-4F1F-89C3-4739937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3FC7-AE28-4E70-9500-3B83ABC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07F-0F15-4295-B98D-CA903D5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F158-7626-4851-966F-CE425BB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415-71FD-47CF-BC71-ECB369A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AA67-7EDC-48E1-9E97-50D115F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A1BE-8ADB-460A-AD82-40D88537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5105-06CE-403C-8FE0-15316BFD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FCA-917F-401A-84D6-92896648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7C6-843A-4B51-AB91-07BE497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DF6-A3EF-446D-A730-4DE01D4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0DE-976F-4D81-9452-D7486D4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C64-FDFC-4816-88AF-FBCBC5A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2B9-18FD-48FD-BAC7-6C65AF9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A25-521A-43C8-98BF-F5776C6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4C4-1530-471F-A986-CFE2CA7EB9C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9B89-9E8D-4C89-BDEF-C387E2B5476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I: Data Analysis: Analyzing Qualitative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types of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odes developed before the data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ctive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velop codes during 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recording notes about what the researcher is learning or feeling from the raw data during and after 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s are an additional tool to help analy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ding and analyz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n pairs to complete the code l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er can use many tools to draw conclu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process of quantifying data (e.g. counting how many times a word appear or a code is repeated) Important for summarizing final fi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Hierarchical or strict inclus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adley’s Universal Semantic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ilds relationship between categories and codes using a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Network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fine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ist some resources of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xplain  what is meant by qualitative data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dentify the parts of qualitative data analysis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 form of words rather tha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urc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Audio reco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Field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Re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Survey com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Historical rec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Photos,painting, so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Typ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books, writing, stories, survey comments, news articles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Un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transcriptions, interviews, focus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Audio recor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Visual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organizing the raw data in categories, identifying relationships among the categories to provide an explanationand understanding of people and situations which are investig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nvolves 3 proced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of th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ing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ranscript the information to visualiz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1 I   So you are saying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2 R  Yes, I think that……………………………………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3      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4     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5  I   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cation of theme (cod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In this step researcher combine the data  for themes and categories the mark similar passage of the text with a theme label (co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can be based on themes, ideas, concepts, terms, phrases or key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are given a meaningful name to indentify the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The number of codes grow as we read through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5:42Z</dcterms:modified>
  <cp:revision>68</cp:revision>
  <dc:subject/>
  <dc:title>Course: Fundamentals of Research</dc:title>
</cp:coreProperties>
</file>